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FF2-DCCC-4081-BE46-44653E58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41-7864-4D4A-BC44-7D93C7F5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430FC-ABDA-444B-91F4-70A1557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DAF5-2800-40E8-AEFD-EB04A2B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958B0-413F-40DE-9D40-6826B8F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675C1-4190-486B-BFA6-5962C9E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745A4-451A-49D9-9D3F-B3AFF56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54094-6824-4898-9616-97C3B9F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4E694-1F0A-4409-9BA8-5DDE012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59BB5-4FDB-4FA7-AAC6-8CD634B1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DF4B3-B5E9-4474-94D5-9DEDC118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0563F-5C7E-483B-908C-0A67EE6B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28B-9DDA-4FF0-836D-7403BA92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56ED-18F7-484F-B331-A728D55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B0FF6-7696-4883-9ED9-5A1A455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174CC-94F5-45E3-83EA-4A1BD7A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5855-7FE8-4D1C-9BAC-81D315DD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5A0B-1291-4380-A30C-7B1BBF6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F8F3D-5842-4889-A83E-F9C9388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F7055-E0E2-446D-928F-249C8E9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041E0-C21F-407A-BE33-CFF9186E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656E2-92B8-45EC-ADDF-F63D164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EA68D-3957-427F-B990-141C163A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FBC-D997-472A-A165-386FBC40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A7918-90F3-4A05-86E1-A89033BC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A0AF-2587-45A4-87C6-F9A59259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5C1E0-31D4-43EE-8B1A-5E8437CC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78BDB-5CC0-445A-803F-1B83B2C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08D6C-046D-41A3-8937-B712E96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ECC6-781B-43BF-ACA7-57F1E1C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5047-F255-4232-BDF2-3D451A5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594AC-3B9D-4527-9F4D-4BE96E0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E4ED0-8F04-4D21-B3A5-A4E76BC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3D157-8279-4CC6-9B9B-18A4812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E532-4A7F-41F0-A344-D3F7C2DC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A8F6-3714-493D-B664-C9474F5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4CDFE-A9B6-408D-B607-7469A222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1BD9D-9AD5-47DC-90EE-9FE7802E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91A83-9988-47D9-9886-A10098EA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098C9-F2EA-4E52-B341-6D6D94CB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2BD9A-3010-414E-94B0-6419C043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8C45-04C8-494A-BE73-DDC0203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EDCC3-AB6E-45F3-9ECA-597114F0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58126-EBFC-472C-8151-8414BF1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38E01-08D7-41BE-8EA9-A3ECD45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7EC-46B9-456A-9D69-5651E8C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30C3C-4ECE-40FC-8452-0BE7B89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C6631-E83C-4244-9A1C-4B477FA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2289E-7E23-4E46-9242-139C1228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50E4A-E6C8-4970-887D-9A47DB13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E3418-C6D0-4258-B013-50E9091B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85E-2B6D-494D-8847-D7D93284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1B68-D7F3-4F1F-A38F-690DDF09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678C-C210-479F-A688-1322E0A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70C-678E-417A-ACE9-E67E8E2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11D-136D-4F6E-8429-410D0E7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3F2-DBAB-4FFC-BDEC-003F36D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147D-C64B-4BAF-8179-3955BC5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102-595D-4C1B-933A-F38784D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0436-F1BA-4FAA-92F0-F409804E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30C-4E36-4DD0-BC38-5F47609C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053D-2106-4FFD-BB4D-1D6781FA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8B8D-6A00-4478-97EE-374B32E0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7929-2224-40D8-8DA7-4D29756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5DF5-9658-4EBF-B3D5-664CA94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CC25-AFC6-4ACA-BFA1-91ECA2D7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E808-F0D7-4F07-8183-8E05E030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FFE-12CE-492F-BCDA-521BB60D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3085-2171-43B1-8D82-E93C02D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797C-A3D4-4E1E-9C0D-72E5EE2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1B15-7B7B-41AD-A500-05E179E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14D7-82B1-4B7D-8C6C-8D3B784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FDCB-4FD6-49DD-9FC0-4A749A0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309E-76B0-4303-9EF6-AE08302F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195C-058F-4F5A-93B3-3208D040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3924-1E6C-410B-8BD0-65778F74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4F40-C02B-48CA-85B0-A7C5A12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FA87-AC61-474A-A0EE-2584C784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8AE-7873-4829-BC42-D43A6D9A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BEB0-2FED-4063-BB5D-1D66DCD2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C2AE-6E24-4013-9D84-D3A492E8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367F-DB9E-47C7-A502-8CCBC96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1660-81A1-42F4-A804-86FAB2F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A7F2-1293-4B77-BA6C-2DA830E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2DB9-4BFC-46F4-ACD4-E1DA962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16C1-EACF-47B1-B42B-627C7C40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D89D-8215-4418-8CCB-BED7943C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8EB4-CE70-4DB9-9F7E-50B80183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98F4-F502-4E51-ACFB-E4B0CA3C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314-6533-4688-9CCA-3F91E03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DECE-B087-4B25-A38E-804B2E34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584D-2589-4DBA-B05C-423073C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36DF-F181-407A-8A52-FA0C58F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637D-4A52-48AA-8453-A22E9B7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B1681-6F83-44C7-949E-44FCDDD8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87C7-D58D-47EC-9CDD-07283007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09427-A1DD-4B17-B0DD-9A4C690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2D35-D111-41C3-8F40-8994318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F1A8-747C-46F0-81E4-4625949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B499-BD15-4C90-8C7D-88C338E0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E27-0414-4BA2-B6DC-DCAD9E82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AF6FB-8420-468A-9FB4-AC9082D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1E1E6-39D5-4DB0-BE40-CE3559B5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ABE6-0279-44FA-AC96-27C450A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1FB8-798D-4DEE-A5C9-F1C9446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9C8F-DFCB-44F3-9764-49A0248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A4FC-512E-468A-A70F-81E6300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F9F4-3304-4FD0-9834-6E49B04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33F8-83E6-49C3-A65B-33A55CB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5E64-B935-4A9A-907E-571435A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94C5D-F8FC-49C7-8EC4-862BA3B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6CF-2BB5-453E-8851-904C79F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5C3D-094F-4041-A627-E23DA75C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670B-D493-4217-BC14-5B5FBC78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0842-2C7C-47C8-B570-69B278C1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C000-D449-4DEF-B5BF-765420CB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E712-A190-496F-99C8-2E070E6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E3BB-F5B7-4E57-8076-5F62BE98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2C6E5-9F7B-421B-A450-38A57FF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5F4EF-3D1F-4F44-B24C-952F3A7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6674-EAFE-44E4-895B-EC9D0F2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7721D-D3AD-4E82-9E16-80DF38B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843-A676-4004-AA65-26F107B2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44D9-A1DC-4B3A-A364-2896DC1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109D-C481-4A9F-BCA7-1816292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6AD62-6E89-488F-AFB0-13D9044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2BE5-708D-492D-8D01-2B31EE4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68AE4-B587-4ADE-B7DD-DFB320E4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FF4C-8835-46FD-91DB-F8D031C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6A81B-DE9C-4B29-8E7F-321F2B2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AC96E-AC3C-4A7A-9FE8-B7EDB29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83CD-4626-47B2-8597-71D1AEF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E23D-332C-4EAE-B983-AFA3CA4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5B4-3BB9-44E9-8703-F8CEEC7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0073-8629-426C-98F2-0A09055D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B0EA-98F3-4ACC-8408-19BA7F5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6DCF3-9A85-419F-A530-1D3E5B7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27A9-020E-48DB-A021-DDE98A0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54C3-5B0A-42E2-8F89-BCEFE559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DA09-AB92-4B6F-A103-7F7FAE1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CC56C-9AE1-4711-9464-629A208A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63755-D0D4-410E-A54C-CBDC63AA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6768-A1E3-4D9D-B455-8092834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83AE-1573-4BD6-9367-577599AD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CD1-483D-4430-9D97-820481F3D5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502-35CD-4F12-8776-E3E6397AD1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ABC-BC26-415D-B73F-B402D45304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F61-34B2-4BA6-89A1-120089F8E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DF2C-68D6-4CAF-AA48-63050FBA43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4DC-2488-4290-BAD7-4FF70C85AA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01C8-B634-45A4-BAFE-E63763940A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8538-7CC3-4548-8FB0-A71990C559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5BF-3DD8-41B3-A87F-0256575030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5715-0B58-4D48-BE78-7903E1A772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19E-889E-469C-8980-7ECFC30FA8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587-356F-4541-B4E3-AC3B8EC163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9 Čoskoro sa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sa Pán k nám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tá celým svetom z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 zlo sa navždy s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útok bolesť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zo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sa chve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 skrylo lúčov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l však z mŕtvy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a sme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 už zem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kým slnko záj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silovne pracu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hoslavenú tú nád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 ľuďom zvest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ás ta, k sebe vz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1-06T18:26:04Z</dcterms:modified>
  <cp:revision>38</cp:revision>
  <dc:subject/>
  <dc:title>Je veľký náš Pán, on slávy je Kráľ Nech do všetkých strán  spev vrúcnych znie chvál.</dc:title>
</cp:coreProperties>
</file>